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1FED-26D9-4604-8B10-A8EEABE11C97}" type="slidenum">
              <a:rPr b="0" lang="hu-H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252"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481E-9BE9-4E11-B1E9-335A7762D3F4}"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6DB7-DE6F-42FB-8F6C-A4B6E471C2AB}"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279"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1161-046E-42B3-A2D1-F140E669D3C5}"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E105-62A4-4126-8B61-52F972EAB13E}"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285"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3445-5275-49BA-AFE9-F1FA15C9C604}"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3556-0864-4854-8DD1-C86D22EE8441}"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255"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7FB5-2DC6-46D8-B550-9ADEAE1113D8}"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C0F7-AAB2-45EE-8228-54A66C2325A6}"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258"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0450-971D-4C37-91A8-32AF5E937823}"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261"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9840-6976-4C47-A0EA-79337A729406}"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5AFD-2E5F-4398-A89C-5D0BDBA68248}"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267"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C744-17E0-45C4-AF1F-A1B847E84C7F}"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38CA-0B3D-4EE4-B1EE-DFF83902CF84}"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273"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1684-4C5A-4E57-A8F0-E8CDAFE9F897}"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5ABA3-6920-49E0-82BB-8379C9049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156A7-8346-412C-A6D9-26C28F2CC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B4AD8-CF73-4B47-829F-6E1304705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8184A-B041-4F78-95FD-CF67BD838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7AF3E-D0CE-4D86-BE8E-A53BE55DA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83ED4-8A63-4959-924A-4528AC752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F0670-DFE6-4FD5-943E-2DF35B123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34753-4904-4BAD-B861-E1E85CA9D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9943D-15C5-4A63-AD20-101240621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42EBA-3D19-4EA1-A41C-E962789D2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37DCB-F70A-453D-AEBC-C3A2362B4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3B657-2AAB-4F77-97D2-21A3533D8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8CC93-F341-4D50-9C81-D0A188CD6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DD8B4-E042-4360-9CAB-072904EF4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D31D5-3250-4F6B-93E9-4A4F249E3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D165B-BB7A-4F3A-AB8C-A0CF77994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84406-5ADD-4947-8F81-887CDF9D1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8AB70E-680D-48C0-A245-1C927616E0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4757F-60DD-4E63-BBB5-D67152A61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CC2D5-6C2A-489F-92D1-AD232876A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A1AE93-4E43-49A5-807B-635575C21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C16034-C261-46EE-A084-4CBEA8484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28CB4-A9C1-4E82-BB41-35889C535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8C1EE-BD1F-4E66-92C6-3CA1BCDF9A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B9643-2EDE-46C2-9EDA-BC7EB631D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E275D-D6BA-4CD1-9D60-3CD5AC0BC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06408-018A-40AB-83D8-97E8CB96F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527AD-15C8-416E-B0BB-91032F411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946488-2A0A-4DFF-A42A-A9BDBBD976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C3CFE7-D050-46FE-8D53-2CE6277059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53B7A9-ACD3-43B4-AE44-229D28A393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58906-6194-4520-BDD3-89DCEA1C00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A947E-D69A-485D-8C08-3C109598A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1A48E-1C8B-4105-BA26-D0E534309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22433-E571-41AC-8FFC-45F067A86C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6D635-AEC5-4CCB-A8B1-C63D18121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B814C4-EDFE-4DF9-A716-B96C073F84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310F0-E31F-4FA1-9E5E-B7B1F25FA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63053-C2A6-4B08-82C6-B0DDC4FFB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BC79A-A18A-43CB-97FD-5604096A6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16EF3-9A38-4447-824B-C853E2B49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129725-7384-4173-91E5-18E2EFD9AC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7111D5-5E0F-40CE-89B7-BCED3238EE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43674-DFDE-4DB6-85A4-E1FEC52E7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DE4FE-3D90-44F3-A454-9313320EA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27D6-6749-4622-8DC3-38D61AED0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3BD7B-9A73-47C5-9700-D43DFF95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51A02-727C-43C9-8C7F-7EBC636E6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zabadkézi sokszög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Szabadkézi sokszög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6A50-C0EF-40DA-B920-FD10E43C080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Csoportba foglalás 1"/>
          <p:cNvGrpSpPr/>
          <p:nvPr/>
        </p:nvGrpSpPr>
        <p:grpSpPr>
          <a:xfrm>
            <a:off x="-19080" y="203040"/>
            <a:ext cx="9181080" cy="648000"/>
            <a:chOff x="-19080" y="203040"/>
            <a:chExt cx="9181080" cy="648000"/>
          </a:xfrm>
        </p:grpSpPr>
        <p:grpSp>
          <p:nvGrpSpPr>
            <p:cNvPr id="8" name="Szabadkézi sokszög 11"/>
            <p:cNvGrpSpPr/>
            <p:nvPr/>
          </p:nvGrpSpPr>
          <p:grpSpPr>
            <a:xfrm>
              <a:off x="-19080" y="203040"/>
              <a:ext cx="9162720" cy="648000"/>
              <a:chOff x="-19080" y="203040"/>
              <a:chExt cx="9162720" cy="648000"/>
            </a:xfrm>
          </p:grpSpPr>
          <p:pic>
            <p:nvPicPr>
              <p:cNvPr id="9" name="Szabadkézi sokszög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zabadkézi sokszög 12"/>
            <p:cNvGrpSpPr/>
            <p:nvPr/>
          </p:nvGrpSpPr>
          <p:grpSpPr>
            <a:xfrm>
              <a:off x="-19080" y="248040"/>
              <a:ext cx="9181080" cy="561600"/>
              <a:chOff x="-19080" y="248040"/>
              <a:chExt cx="9181080" cy="561600"/>
            </a:xfrm>
          </p:grpSpPr>
          <p:pic>
            <p:nvPicPr>
              <p:cNvPr id="12" name="Szabadkézi sokszög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zabadkézi sokszög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zabadkézi sokszög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Csoportba foglalás 1"/>
          <p:cNvGrpSpPr/>
          <p:nvPr/>
        </p:nvGrpSpPr>
        <p:grpSpPr>
          <a:xfrm>
            <a:off x="-19080" y="203040"/>
            <a:ext cx="9181080" cy="648000"/>
            <a:chOff x="-19080" y="203040"/>
            <a:chExt cx="9181080" cy="648000"/>
          </a:xfrm>
        </p:grpSpPr>
        <p:grpSp>
          <p:nvGrpSpPr>
            <p:cNvPr id="53" name="Szabadkézi sokszög 11"/>
            <p:cNvGrpSpPr/>
            <p:nvPr/>
          </p:nvGrpSpPr>
          <p:grpSpPr>
            <a:xfrm>
              <a:off x="-19080" y="203040"/>
              <a:ext cx="9162720" cy="648000"/>
              <a:chOff x="-19080" y="203040"/>
              <a:chExt cx="9162720" cy="648000"/>
            </a:xfrm>
          </p:grpSpPr>
          <p:pic>
            <p:nvPicPr>
              <p:cNvPr id="54" name="Szabadkézi sokszög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zabadkézi sokszög 12"/>
            <p:cNvGrpSpPr/>
            <p:nvPr/>
          </p:nvGrpSpPr>
          <p:grpSpPr>
            <a:xfrm>
              <a:off x="-19080" y="248040"/>
              <a:ext cx="9181080" cy="561600"/>
              <a:chOff x="-19080" y="248040"/>
              <a:chExt cx="9181080" cy="561600"/>
            </a:xfrm>
          </p:grpSpPr>
          <p:pic>
            <p:nvPicPr>
              <p:cNvPr id="57" name="Szabadkézi sokszög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E02F-96BC-4348-8320-987D7698684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zabadkézi sokszög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Szabadkézi sokszög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Csoportba foglalás 1"/>
          <p:cNvGrpSpPr/>
          <p:nvPr/>
        </p:nvGrpSpPr>
        <p:grpSpPr>
          <a:xfrm>
            <a:off x="-19080" y="203040"/>
            <a:ext cx="9181080" cy="648000"/>
            <a:chOff x="-19080" y="203040"/>
            <a:chExt cx="9181080" cy="648000"/>
          </a:xfrm>
        </p:grpSpPr>
        <p:grpSp>
          <p:nvGrpSpPr>
            <p:cNvPr id="103" name="Szabadkézi sokszög 11"/>
            <p:cNvGrpSpPr/>
            <p:nvPr/>
          </p:nvGrpSpPr>
          <p:grpSpPr>
            <a:xfrm>
              <a:off x="-19080" y="203040"/>
              <a:ext cx="9162720" cy="648000"/>
              <a:chOff x="-19080" y="203040"/>
              <a:chExt cx="9162720" cy="648000"/>
            </a:xfrm>
          </p:grpSpPr>
          <p:pic>
            <p:nvPicPr>
              <p:cNvPr id="104" name="Szabadkézi sokszög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Szabadkézi sokszög 12"/>
            <p:cNvGrpSpPr/>
            <p:nvPr/>
          </p:nvGrpSpPr>
          <p:grpSpPr>
            <a:xfrm>
              <a:off x="-19080" y="248040"/>
              <a:ext cx="9181080" cy="561600"/>
              <a:chOff x="-19080" y="248040"/>
              <a:chExt cx="9181080" cy="561600"/>
            </a:xfrm>
          </p:grpSpPr>
          <p:pic>
            <p:nvPicPr>
              <p:cNvPr id="107" name="Szabadkézi sokszög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BB8C-6779-4682-97FB-701687020A0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Egy sarkán kerekítve levágott téglalap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Derékszögű háromszög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Szabadkézi sokszög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zabadkézi sokszög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590D-A42C-4CEB-8627-EDB999AF097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4" descr="X:\Kommunikáció\Egyéb\Képek.jpg"/>
          <p:cNvPicPr/>
          <p:nvPr/>
        </p:nvPicPr>
        <p:blipFill>
          <a:blip r:embed="rId2"/>
          <a:stretch/>
        </p:blipFill>
        <p:spPr>
          <a:xfrm>
            <a:off x="611280" y="189000"/>
            <a:ext cx="8048520" cy="1876320"/>
          </a:xfrm>
          <a:prstGeom prst="rect">
            <a:avLst/>
          </a:prstGeom>
          <a:ln w="0">
            <a:noFill/>
          </a:ln>
          <a:effectLst>
            <a:outerShdw dist="50760" dir="5400000" blurRad="0" rotWithShape="0">
              <a:srgbClr val="000000">
                <a:alpha val="0"/>
              </a:srgbClr>
            </a:outerShdw>
          </a:effectLst>
        </p:spPr>
      </p:pic>
      <p:sp>
        <p:nvSpPr>
          <p:cNvPr id="203" name="PlaceHolder 1"/>
          <p:cNvSpPr>
            <a:spLocks noGrp="1"/>
          </p:cNvSpPr>
          <p:nvPr>
            <p:ph type="subTitle"/>
          </p:nvPr>
        </p:nvSpPr>
        <p:spPr>
          <a:xfrm>
            <a:off x="755640" y="4292280"/>
            <a:ext cx="7704000" cy="1871640"/>
          </a:xfrm>
          <a:prstGeom prst="rect">
            <a:avLst/>
          </a:prstGeom>
          <a:noFill/>
          <a:ln w="0">
            <a:noFill/>
          </a:ln>
        </p:spPr>
        <p:txBody>
          <a:bodyPr lIns="0" rIns="1836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Az ÉSZAK-ALFÖLDI LEADER HELYI AKCIÓCSOPORTOK</a:t>
            </a: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ea typeface="Times New Roman"/>
              </a:rPr>
              <a:t>összefoglaló megállapításai</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4" name="Szövegdoboz 7"/>
          <p:cNvSpPr/>
          <p:nvPr/>
        </p:nvSpPr>
        <p:spPr>
          <a:xfrm>
            <a:off x="395280" y="2492280"/>
            <a:ext cx="8137440" cy="947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ER Program átalakításához kapcsolódó társadalmi vita országos záró rendezvény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josmizse, 2010. december 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880"/>
            <a:ext cx="8229600" cy="8524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HVS felülvizsgálata és a pályázati felhívások kidolgozása</a:t>
            </a:r>
            <a:endParaRPr b="0" lang="en-US" sz="2400" spc="-1" strike="noStrike">
              <a:solidFill>
                <a:srgbClr val="04617b"/>
              </a:solidFill>
              <a:latin typeface="Calibri"/>
            </a:endParaRPr>
          </a:p>
        </p:txBody>
      </p:sp>
      <p:sp>
        <p:nvSpPr>
          <p:cNvPr id="2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A HVS felülvizsgálata együtt történjen a helyi, megyei stratégiák kialakításával, a tervezés óta történt esetleges változtatások figyelembevételével.</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A HVS felülvizsgálat valamint a helyi/megyei koncepció kölcsönösen legyen összhangban egymással.</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IIER fejlesztésére jelenlegi állapotában – program félidejében – van még idő? Jelentősebb fejlesztések megvalósítása már nem megoldható, valamint kérdéses az erre fordítandó forrás előteremtésének kérdése is. </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Amennyiben fejleszthető az IIER, akkor tervezési felülete illeszkedjen a HACS-ok tervezési önállóságához.</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7081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HVS felülvizsgálata és a pályázati felhívások kidolgozása</a:t>
            </a:r>
            <a:endParaRPr b="0" lang="en-US" sz="2400" spc="-1" strike="noStrike">
              <a:solidFill>
                <a:srgbClr val="04617b"/>
              </a:solidFill>
              <a:latin typeface="Calibri"/>
            </a:endParaRPr>
          </a:p>
        </p:txBody>
      </p:sp>
      <p:sp>
        <p:nvSpPr>
          <p:cNvPr id="229" name="PlaceHolder 2"/>
          <p:cNvSpPr>
            <a:spLocks noGrp="1"/>
          </p:cNvSpPr>
          <p:nvPr>
            <p:ph/>
          </p:nvPr>
        </p:nvSpPr>
        <p:spPr>
          <a:xfrm>
            <a:off x="250560" y="1483920"/>
            <a:ext cx="8435880" cy="4969080"/>
          </a:xfrm>
          <a:prstGeom prst="rect">
            <a:avLst/>
          </a:prstGeom>
          <a:noFill/>
          <a:ln w="0">
            <a:noFill/>
          </a:ln>
        </p:spPr>
        <p:txBody>
          <a:bodyPr lIns="90000" rIns="90000" tIns="46800" bIns="46800" anchor="t">
            <a:normAutofit/>
          </a:bodyPr>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 HACS-nak legyen lehetősége a III. tengelyes és a LEADER források esetén is a projekt előzetes bírálatára. Döntse el, hogy a HVS céljaival összeegyeztethető projektről van-e szó. Amennyiben igen akkor kérelem szinten is kidolgozható a projekt. A HVS-hez való illeszkedés ne részpontszámot jelentsen hanem jogosultságot. (A HVS és a III. tengelyes kiírások tartalmi kapcsolata emiatt újra gondolandó.)</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 LEADER források esetében alkalmazható szempontrendszer kialakítása az alapelvekből kiindulva a HACS feladata, azonban mindenképpen szükséges az IH koordináció - szintén az alapelvek betartása érdekében.</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 pályázati kiírásokkal egy időben és egy helyen szükséges megjelentetni (tömörített formátumban is) a kiírással kapcsolatos dokumentumok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Picture 2" descr="X:\Képek\ritafotok\DSC_0020.jpg"/>
          <p:cNvPicPr/>
          <p:nvPr/>
        </p:nvPicPr>
        <p:blipFill>
          <a:blip r:embed="rId2"/>
          <a:stretch/>
        </p:blipFill>
        <p:spPr>
          <a:xfrm>
            <a:off x="108000" y="1197000"/>
            <a:ext cx="7980480" cy="5300640"/>
          </a:xfrm>
          <a:prstGeom prst="rect">
            <a:avLst/>
          </a:prstGeom>
          <a:ln w="0">
            <a:noFill/>
          </a:ln>
        </p:spPr>
      </p:pic>
      <p:pic>
        <p:nvPicPr>
          <p:cNvPr id="231" name="Picture 4" descr="X:\Képek\ritafotok\DSC_0075.jpg"/>
          <p:cNvPicPr/>
          <p:nvPr/>
        </p:nvPicPr>
        <p:blipFill>
          <a:blip r:embed="rId3"/>
          <a:stretch/>
        </p:blipFill>
        <p:spPr>
          <a:xfrm>
            <a:off x="5219640" y="0"/>
            <a:ext cx="3808440" cy="5732640"/>
          </a:xfrm>
          <a:prstGeom prst="rect">
            <a:avLst/>
          </a:prstGeom>
          <a:ln w="0">
            <a:noFill/>
          </a:ln>
        </p:spPr>
      </p:pic>
      <p:sp>
        <p:nvSpPr>
          <p:cNvPr id="232" name="Szövegdoboz 5"/>
          <p:cNvSpPr/>
          <p:nvPr/>
        </p:nvSpPr>
        <p:spPr>
          <a:xfrm>
            <a:off x="1042920" y="404640"/>
            <a:ext cx="3211560" cy="5540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Times New Roman"/>
                <a:ea typeface="Times New Roman"/>
              </a:rPr>
              <a:t>Észak-alföldi Régió</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Times New Roman"/>
                <a:ea typeface="Times New Roman"/>
              </a:rPr>
              <a:t>Kulturális értéke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259920"/>
            <a:ext cx="8229600" cy="576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LEADER pályázatok benyújtása</a:t>
            </a:r>
            <a:r>
              <a:rPr b="0" lang="hu-HU" sz="4600" spc="-1" strike="noStrike">
                <a:solidFill>
                  <a:srgbClr val="04617b"/>
                </a:solidFill>
                <a:latin typeface="Calibri"/>
              </a:rPr>
              <a:t> </a:t>
            </a:r>
            <a:endParaRPr b="0" lang="en-US" sz="4600" spc="-1" strike="noStrike">
              <a:solidFill>
                <a:srgbClr val="04617b"/>
              </a:solidFill>
              <a:latin typeface="Calibri"/>
            </a:endParaRPr>
          </a:p>
        </p:txBody>
      </p:sp>
      <p:sp>
        <p:nvSpPr>
          <p:cNvPr id="234" name=""/>
          <p:cNvSpPr txBox="1"/>
          <p:nvPr/>
        </p:nvSpPr>
        <p:spPr>
          <a:xfrm>
            <a:off x="250560" y="907560"/>
            <a:ext cx="8435880" cy="5473800"/>
          </a:xfrm>
          <a:prstGeom prst="rect">
            <a:avLst/>
          </a:prstGeom>
          <a:noFill/>
          <a:ln w="0">
            <a:noFill/>
          </a:ln>
        </p:spPr>
        <p:txBody>
          <a:bodyPr anchor="t">
            <a:normAutofit fontScale="93000"/>
          </a:bodyPr>
          <a:p>
            <a:pPr marL="253440" indent="-25344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A kérelmek elektronikus benyújtása meggyorsíthatja az ügyintézési folyamatot, éppen ezért az elektronikus benyújtás lehetőségének előtérbe helyezését támogatjuk. A pályázati felhívások meghirdetését követően - legkésőbb 6 hónapon belül, amennyibe hiánypótlásra van szükség - a kérelem benyújtói támogatási határozattal rendelkezzenek. (Hiánypótlás nélkül ez az időszak max. 4 hónapban kerüljön maximálásra.) A cél elérése érdekében egyértelmű, kiírással és egyéb jogszabályokkal összhangban lévő kérelem-kezelési útmutató készítése szükséges. A kiírásban és a kitöltési útmutató tartalmának összeállításánál szintén figyelembe kell venni az előzőeket.</a:t>
            </a:r>
            <a:endParaRPr b="0" lang="en-US" sz="2200" spc="-1" strike="noStrike">
              <a:solidFill>
                <a:srgbClr val="000000"/>
              </a:solidFill>
              <a:latin typeface="Constantia"/>
            </a:endParaRPr>
          </a:p>
          <a:p>
            <a:pPr marL="253440" indent="-25344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Az elektronikus benyújtás fogalmát meg kellene határozni (online kitöltő program, letölthető kitöltő program és papíron+CD-n is be kell nyújtani, az adatlap elektronikusan tölthető – de program – és papíron+CD-n is be kell nyújtani, stb.)</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txBox="1"/>
          <p:nvPr/>
        </p:nvSpPr>
        <p:spPr>
          <a:xfrm>
            <a:off x="457200" y="836640"/>
            <a:ext cx="8229600" cy="5487840"/>
          </a:xfrm>
          <a:prstGeom prst="rect">
            <a:avLst/>
          </a:prstGeom>
          <a:noFill/>
          <a:ln w="0">
            <a:noFill/>
          </a:ln>
        </p:spPr>
        <p:txBody>
          <a:bodyPr anchor="t">
            <a:normAutofit fontScale="96000"/>
          </a:bodyPr>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kérelmek elektronikus benyújtásának elősegítése szükséges!</a:t>
            </a:r>
            <a:endParaRPr b="0" lang="en-US" sz="2600" spc="-1" strike="noStrike">
              <a:solidFill>
                <a:srgbClr val="000000"/>
              </a:solidFill>
              <a:latin typeface="Constantia"/>
            </a:endParaRPr>
          </a:p>
          <a:p>
            <a:pPr marL="261720" indent="-2617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mennyiben megoldható, elektronikus formában – CD-re írva – is kerüljenek a kérelmek benyújtásra, a mellékleteket képző dokumentumok pedig postai úton jussanak el az illetékes HACS-hoz, MVH kirendeltséghez.</a:t>
            </a:r>
            <a:endParaRPr b="0" lang="en-US" sz="2600" spc="-1" strike="noStrike">
              <a:solidFill>
                <a:srgbClr val="000000"/>
              </a:solidFill>
              <a:latin typeface="Constantia"/>
            </a:endParaRPr>
          </a:p>
          <a:p>
            <a:pPr marL="261720" indent="-2617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Kérelemkezelés eljárásrendjeinek kidolgozása előzze meg a pályázat meghirdetésének időpontját:</a:t>
            </a:r>
            <a:endParaRPr b="0" lang="en-US" sz="2600" spc="-1" strike="noStrike">
              <a:solidFill>
                <a:srgbClr val="000000"/>
              </a:solidFill>
              <a:latin typeface="Constantia"/>
            </a:endParaRPr>
          </a:p>
          <a:p>
            <a:pPr marL="261720" indent="-2617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Kész eljárásrend – határidők – elvárások pontos ismerete = hatékonyabb, számonkérhető, értékelhető kérelemkezelés!</a:t>
            </a:r>
            <a:endParaRPr b="0" lang="en-US" sz="2600" spc="-1" strike="noStrike">
              <a:solidFill>
                <a:srgbClr val="000000"/>
              </a:solidFill>
              <a:latin typeface="Constantia"/>
            </a:endParaRPr>
          </a:p>
        </p:txBody>
      </p:sp>
      <p:sp>
        <p:nvSpPr>
          <p:cNvPr id="236" name="PlaceHolder 1"/>
          <p:cNvSpPr>
            <a:spLocks noGrp="1"/>
          </p:cNvSpPr>
          <p:nvPr>
            <p:ph type="title"/>
          </p:nvPr>
        </p:nvSpPr>
        <p:spPr>
          <a:xfrm>
            <a:off x="468360" y="333360"/>
            <a:ext cx="8229600" cy="503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LEADER kérelemkezelés</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88640"/>
            <a:ext cx="8229600" cy="36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Összeférhetetlenség szabályozása</a:t>
            </a:r>
            <a:endParaRPr b="0" lang="en-US" sz="2400" spc="-1" strike="noStrike">
              <a:solidFill>
                <a:srgbClr val="04617b"/>
              </a:solidFill>
              <a:latin typeface="Calibri"/>
            </a:endParaRPr>
          </a:p>
        </p:txBody>
      </p:sp>
      <p:sp>
        <p:nvSpPr>
          <p:cNvPr id="238" name=""/>
          <p:cNvSpPr txBox="1"/>
          <p:nvPr/>
        </p:nvSpPr>
        <p:spPr>
          <a:xfrm>
            <a:off x="178920" y="1196640"/>
            <a:ext cx="8713800" cy="5256360"/>
          </a:xfrm>
          <a:prstGeom prst="rect">
            <a:avLst/>
          </a:prstGeom>
          <a:noFill/>
          <a:ln w="0">
            <a:noFill/>
          </a:ln>
        </p:spPr>
        <p:txBody>
          <a:bodyPr anchor="t">
            <a:normAutofit/>
          </a:bodyPr>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 megfogalmazott javaslatok elfogadhatóak. (DE: pl.szkennelés 4 óra?, a feladatok ilyen mélységig való meghatározása nem valószínű hogy az elvárt eredményt hozza.)</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 HACS munkatársai bármikor adhassanak felvilágosítást a támogatási lehetőségekről, pályázati feltételekről, a tanácsadás fontos a helyi pályázók szerint!</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Tanácsadó alkalmazása támogatandó, azonban kérdéses a finanszírozá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250560" y="1196640"/>
            <a:ext cx="8713800" cy="5256360"/>
          </a:xfrm>
          <a:prstGeom prst="rect">
            <a:avLst/>
          </a:prstGeom>
          <a:noFill/>
          <a:ln w="0">
            <a:noFill/>
          </a:ln>
        </p:spPr>
        <p:txBody>
          <a:bodyPr anchor="t">
            <a:normAutofit/>
          </a:bodyPr>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Legyen lehetőség egy egyszerűsített adatlapon történő kérelem benyújtásra (max. 1-2 oldal).</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Eltérő (egyszerűsített) adatlap szükséges építéssel járó beruházás és építéssel nem járó eszközbeszerzés esetén!</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Egyszerűsített eljárás használata azon kérelmek esetén, melyek 2 millió forintos értékhatár alatt lévő kérelmek. (Főként építéssel nem járó gépbeszerzések esetén.)</a:t>
            </a:r>
            <a:endParaRPr b="0" lang="en-US" sz="2600" spc="-1" strike="noStrike">
              <a:solidFill>
                <a:srgbClr val="000000"/>
              </a:solidFill>
              <a:latin typeface="Constantia"/>
            </a:endParaRPr>
          </a:p>
        </p:txBody>
      </p:sp>
      <p:sp>
        <p:nvSpPr>
          <p:cNvPr id="240" name="PlaceHolder 1"/>
          <p:cNvSpPr>
            <a:spLocks noGrp="1"/>
          </p:cNvSpPr>
          <p:nvPr>
            <p:ph type="title"/>
          </p:nvPr>
        </p:nvSpPr>
        <p:spPr>
          <a:xfrm>
            <a:off x="468360" y="259920"/>
            <a:ext cx="8229600" cy="792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Kis értékű projektekre vonatkozó speciális eljárás szabályok alkalmazás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563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A HACS-ok alapvető tevékenységi területinek erősítése</a:t>
            </a:r>
            <a:r>
              <a:rPr b="0" lang="hu-HU" sz="4600" spc="-1" strike="noStrike">
                <a:solidFill>
                  <a:srgbClr val="04617b"/>
                </a:solidFill>
                <a:latin typeface="Calibri"/>
              </a:rPr>
              <a:t> </a:t>
            </a:r>
            <a:endParaRPr b="0" lang="en-US" sz="4600" spc="-1" strike="noStrike">
              <a:solidFill>
                <a:srgbClr val="04617b"/>
              </a:solidFill>
              <a:latin typeface="Calibri"/>
            </a:endParaRPr>
          </a:p>
        </p:txBody>
      </p:sp>
      <p:sp>
        <p:nvSpPr>
          <p:cNvPr id="242" name="PlaceHolder 2"/>
          <p:cNvSpPr>
            <a:spLocks noGrp="1"/>
          </p:cNvSpPr>
          <p:nvPr>
            <p:ph/>
          </p:nvPr>
        </p:nvSpPr>
        <p:spPr>
          <a:xfrm>
            <a:off x="457200" y="1988640"/>
            <a:ext cx="8229600" cy="4335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kiadott megfogalmazott javaslatokkal egyetért az ÉA-i Régió minden csoportj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LEADER jogcímek változtatásai, a nemzetközi és térségek közötti együttműködési jogcím végrehajtási rendjének átalakítása</a:t>
            </a:r>
            <a:endParaRPr b="0" lang="en-US" sz="2400" spc="-1" strike="noStrike">
              <a:solidFill>
                <a:srgbClr val="04617b"/>
              </a:solidFill>
              <a:latin typeface="Calibri"/>
            </a:endParaRPr>
          </a:p>
        </p:txBody>
      </p:sp>
      <p:sp>
        <p:nvSpPr>
          <p:cNvPr id="2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megfogalmazott javaslatok alapvetően elfogadhatóak.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jövőben kiírásra kerülő felhívások esetén szükséges annak megvalósítása, hogy a LEADER HACS-ok közös pályázatot tudjanak benyújtani pl. konzorcium vagy partnerség keretében.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közös projektek kapcsán felmerülő költségek ne egy HACS forrását terheljé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7081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A terv, tanulmány, mint önálló jogcím megtartásának feltételei</a:t>
            </a:r>
            <a:endParaRPr b="0" lang="en-US" sz="2400" spc="-1" strike="noStrike">
              <a:solidFill>
                <a:srgbClr val="04617b"/>
              </a:solidFill>
              <a:latin typeface="Calibri"/>
            </a:endParaRPr>
          </a:p>
        </p:txBody>
      </p:sp>
      <p:sp>
        <p:nvSpPr>
          <p:cNvPr id="24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megfogalmazott javaslatok elfogadhatóak.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Független szakértői csoport bírálata során az elkészített terv, tanulmány átdolgozására legyen lehetőség, megjelölve a bírálatban a hiányosságok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89000"/>
            <a:ext cx="8229600" cy="706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4617b"/>
                </a:solidFill>
                <a:latin typeface="Times New Roman"/>
                <a:ea typeface="Times New Roman"/>
              </a:rPr>
              <a:t>ÉSZAK-ALFÖLDI RÉGIÓ: 17 HACS</a:t>
            </a:r>
            <a:endParaRPr b="0" lang="en-US" sz="3400" spc="-1" strike="noStrike">
              <a:solidFill>
                <a:srgbClr val="04617b"/>
              </a:solidFill>
              <a:latin typeface="Calibri"/>
            </a:endParaRPr>
          </a:p>
        </p:txBody>
      </p:sp>
      <p:pic>
        <p:nvPicPr>
          <p:cNvPr id="206" name="Szöveg helye 29" descr=""/>
          <p:cNvPicPr/>
          <p:nvPr/>
        </p:nvPicPr>
        <p:blipFill>
          <a:blip r:embed="rId2"/>
          <a:stretch/>
        </p:blipFill>
        <p:spPr>
          <a:xfrm>
            <a:off x="3492360" y="1341360"/>
            <a:ext cx="5139000" cy="3424320"/>
          </a:xfrm>
          <a:prstGeom prst="rect">
            <a:avLst/>
          </a:prstGeom>
          <a:ln w="0">
            <a:noFill/>
          </a:ln>
        </p:spPr>
      </p:pic>
      <p:pic>
        <p:nvPicPr>
          <p:cNvPr id="207" name="" descr=""/>
          <p:cNvPicPr/>
          <p:nvPr/>
        </p:nvPicPr>
        <p:blipFill>
          <a:blip r:embed="rId3"/>
          <a:stretch/>
        </p:blipFill>
        <p:spPr>
          <a:xfrm>
            <a:off x="250920" y="3860640"/>
            <a:ext cx="3556080" cy="266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880"/>
            <a:ext cx="8229600" cy="4204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Képzések</a:t>
            </a:r>
            <a:endParaRPr b="0" lang="en-US" sz="2400" spc="-1" strike="noStrike">
              <a:solidFill>
                <a:srgbClr val="04617b"/>
              </a:solidFill>
              <a:latin typeface="Calibri"/>
            </a:endParaRPr>
          </a:p>
        </p:txBody>
      </p:sp>
      <p:sp>
        <p:nvSpPr>
          <p:cNvPr id="248" name="PlaceHolder 2"/>
          <p:cNvSpPr>
            <a:spLocks noGrp="1"/>
          </p:cNvSpPr>
          <p:nvPr>
            <p:ph/>
          </p:nvPr>
        </p:nvSpPr>
        <p:spPr>
          <a:xfrm>
            <a:off x="457200" y="1557360"/>
            <a:ext cx="8229600" cy="4767120"/>
          </a:xfrm>
          <a:prstGeom prst="rect">
            <a:avLst/>
          </a:prstGeom>
          <a:noFill/>
          <a:ln w="0">
            <a:noFill/>
          </a:ln>
        </p:spPr>
        <p:txBody>
          <a:bodyPr lIns="90000" rIns="90000" tIns="46800" bIns="46800"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A képzések gyakorlat orientáltak legyenek, szükség szerint akár több napon keresztül tartó oktatások is szükségesek. A hatékony oktatások a valódi ismereteket tartalmazzák. </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MAJD - Vizsga szintű, vagy pontozási rendszer szintű elismerés után lehessen dolgozni a rendszerben.</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A delegált feladatok ellátását segítő képzésekre szükség van, de nem szakreferensek, hanem szakértők által. A képzéseken a MVH munkatársait és a HACS-ok munkatársait együtt képezzék.</a:t>
            </a:r>
            <a:endParaRPr b="0" lang="en-US" sz="2200" spc="-1" strike="noStrike">
              <a:solidFill>
                <a:srgbClr val="000000"/>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Esetlegesen a képzés irányuljon egyéb ismeretek megszerzésére is, mint pl. KSH adatbázis kezelésének felhasználói szintű alkalmazása.</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68360" y="1483920"/>
            <a:ext cx="8229600" cy="4465800"/>
          </a:xfrm>
          <a:prstGeom prst="rect">
            <a:avLst/>
          </a:prstGeom>
          <a:noFill/>
          <a:ln w="0">
            <a:noFill/>
          </a:ln>
        </p:spPr>
        <p:txBody>
          <a:bodyPr anchor="t">
            <a:normAutofit/>
          </a:bodyPr>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Times New Roman"/>
                <a:ea typeface="Times New Roman"/>
              </a:rPr>
              <a:t>Köszönöm a megtisztelő figyelmüket!</a:t>
            </a:r>
            <a:endParaRPr b="0" lang="en-US" sz="3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Times New Roman"/>
                <a:ea typeface="Times New Roman"/>
              </a:rPr>
              <a:t>Észak-alföldi Régió</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A megyei javaslatokat összeállította: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Angyal Csaba és Szolovjov Ri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04640"/>
            <a:ext cx="8229600" cy="635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4617b"/>
                </a:solidFill>
                <a:latin typeface="Arial"/>
              </a:rPr>
              <a:t>Nyilvánosság, számon kérhetőség, teljesítmény- és teljesítésértékelés a LEADER rendszerben</a:t>
            </a:r>
            <a:endParaRPr b="0" lang="en-US" sz="2000" spc="-1" strike="noStrike">
              <a:solidFill>
                <a:srgbClr val="04617b"/>
              </a:solidFill>
              <a:latin typeface="Calibri"/>
            </a:endParaRPr>
          </a:p>
        </p:txBody>
      </p:sp>
      <p:sp>
        <p:nvSpPr>
          <p:cNvPr id="209" name=""/>
          <p:cNvSpPr txBox="1"/>
          <p:nvPr/>
        </p:nvSpPr>
        <p:spPr>
          <a:xfrm>
            <a:off x="468360" y="1125360"/>
            <a:ext cx="8229600" cy="5361120"/>
          </a:xfrm>
          <a:prstGeom prst="rect">
            <a:avLst/>
          </a:prstGeom>
          <a:noFill/>
          <a:ln w="0">
            <a:noFill/>
          </a:ln>
        </p:spPr>
        <p:txBody>
          <a:bodyPr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 jogszabályok az EU eredeti céljaihoz igazodjanak – félre fordításokat és félreértelmezéseket kerülni szükséges. A módosítani kívánt jogszabályok közvetlenül – e-mail formában – kerüljenek megküldésre véleményezés céljából az érintett LEADER HACS-oknak véleményezésre.</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z MVH által jelenleg meghatározott MVH feladat 40%-os mértéke </a:t>
            </a:r>
            <a:r>
              <a:rPr b="1" lang="hu-HU" sz="2400" spc="-1" strike="noStrike" u="sng">
                <a:solidFill>
                  <a:srgbClr val="000000"/>
                </a:solidFill>
                <a:uFillTx/>
                <a:latin typeface="Arial"/>
              </a:rPr>
              <a:t>konkrét feladat megadással, határidő megjelöléssel</a:t>
            </a:r>
            <a:r>
              <a:rPr b="1" lang="hu-HU" sz="2400" spc="-1" strike="noStrike">
                <a:solidFill>
                  <a:srgbClr val="000000"/>
                </a:solidFill>
                <a:latin typeface="Arial"/>
              </a:rPr>
              <a:t> történjen. Ezzel együtt az adminisztrációs terheket csökkenteni szükséges. Az értékelési szempontok kialakítása során figyelembe kell venni a HACS-ok EGYMÁSTÓL ELTÉRŐ (TÉRSÉGI) JELLEMZŐI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404640"/>
            <a:ext cx="8229600" cy="648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4617b"/>
                </a:solidFill>
                <a:latin typeface="Arial"/>
              </a:rPr>
              <a:t>Nyilvánosság, számon kérhetőség, teljesítmény- és teljesítésértékelés a LEADER rendszerben</a:t>
            </a:r>
            <a:endParaRPr b="0" lang="en-US" sz="2000" spc="-1" strike="noStrike">
              <a:solidFill>
                <a:srgbClr val="04617b"/>
              </a:solidFill>
              <a:latin typeface="Calibri"/>
            </a:endParaRPr>
          </a:p>
        </p:txBody>
      </p:sp>
      <p:sp>
        <p:nvSpPr>
          <p:cNvPr id="211" name=""/>
          <p:cNvSpPr txBox="1"/>
          <p:nvPr/>
        </p:nvSpPr>
        <p:spPr>
          <a:xfrm>
            <a:off x="250560" y="1125000"/>
            <a:ext cx="8435880" cy="500076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Átjárhatóság biztosítva legyen az MVH és IH között, vagyis az IH felé leadott indikátorokat ne kelljen az MVH felé ismételten megküldeni, egy központi rendszerben ellenőrizhető legyen azok valódisága, történhessen meg ott azok ellenőrzése (beszkennelt dokumentumok).</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 jelenlegi rendszerben a hibák miatt szankcionálás történik, ösztönzők viszont nincsenek beépítve a rendszerb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z előző rendszertől eltérően egy-egy HACS hibáját nem kell feltétlenül rendszerhibának tekinteni, ill. SZANKCIÓ a hibázó HACS-ot érintse, ne kollektív hasson minden csoportr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76280"/>
            <a:ext cx="8229600" cy="792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Nyilvánosság, számon kérhetőség, teljesítmény- és teljesítésértékelés a LEADER rendszerben</a:t>
            </a:r>
            <a:endParaRPr b="0" lang="en-US" sz="2400" spc="-1" strike="noStrike">
              <a:solidFill>
                <a:srgbClr val="04617b"/>
              </a:solidFill>
              <a:latin typeface="Calibri"/>
            </a:endParaRPr>
          </a:p>
        </p:txBody>
      </p:sp>
      <p:sp>
        <p:nvSpPr>
          <p:cNvPr id="2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z egyéb bevételszerzés konkrét szabályrendszerét tisztázni szükséges. </a:t>
            </a:r>
            <a:br>
              <a:rPr sz="2400"/>
            </a:br>
            <a:r>
              <a:rPr b="1" lang="hu-HU" sz="2400" spc="-1" strike="noStrike">
                <a:solidFill>
                  <a:srgbClr val="000000"/>
                </a:solidFill>
                <a:latin typeface="Arial"/>
              </a:rPr>
              <a:t>(pl. bevétel szerzés lehetősége fizikai helyszínben is elkülönül a munkaszervezeti feladatok ellátásának helyszínétő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Teljesítmény- és teljesítésértékelést - határidők és elvégzendő feladatok ismeretében – félévente végezzen a HACS, önértékelés, majd központi (szakemberek által összeállított) értékelési módszer alapján.</a:t>
            </a:r>
            <a:endParaRPr b="0" lang="en-US" sz="2400" spc="-1" strike="noStrike">
              <a:solidFill>
                <a:srgbClr val="000000"/>
              </a:solidFill>
              <a:latin typeface="Constantia"/>
            </a:endParaRPr>
          </a:p>
          <a:p>
            <a:pPr marL="27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Picture 3" descr="X:\Képek\ritafotok\DSC_0410.jpg"/>
          <p:cNvPicPr/>
          <p:nvPr/>
        </p:nvPicPr>
        <p:blipFill>
          <a:blip r:embed="rId2"/>
          <a:stretch/>
        </p:blipFill>
        <p:spPr>
          <a:xfrm>
            <a:off x="0" y="1484280"/>
            <a:ext cx="6869160" cy="4797360"/>
          </a:xfrm>
          <a:prstGeom prst="rect">
            <a:avLst/>
          </a:prstGeom>
          <a:ln w="0">
            <a:noFill/>
          </a:ln>
        </p:spPr>
      </p:pic>
      <p:pic>
        <p:nvPicPr>
          <p:cNvPr id="215" name="Picture 2" descr="X:\Képek\ritafotok\DSC_0065.jpg"/>
          <p:cNvPicPr/>
          <p:nvPr/>
        </p:nvPicPr>
        <p:blipFill>
          <a:blip r:embed="rId3"/>
          <a:stretch/>
        </p:blipFill>
        <p:spPr>
          <a:xfrm>
            <a:off x="4643280" y="4076640"/>
            <a:ext cx="3973680" cy="2638440"/>
          </a:xfrm>
          <a:prstGeom prst="rect">
            <a:avLst/>
          </a:prstGeom>
          <a:ln w="0">
            <a:noFill/>
          </a:ln>
        </p:spPr>
      </p:pic>
      <p:pic>
        <p:nvPicPr>
          <p:cNvPr id="216" name="Picture 4" descr="X:\Képek\ritafotok\tanosveny.jpg"/>
          <p:cNvPicPr/>
          <p:nvPr/>
        </p:nvPicPr>
        <p:blipFill>
          <a:blip r:embed="rId4"/>
          <a:stretch/>
        </p:blipFill>
        <p:spPr>
          <a:xfrm>
            <a:off x="6084720" y="0"/>
            <a:ext cx="2725920" cy="4221000"/>
          </a:xfrm>
          <a:prstGeom prst="rect">
            <a:avLst/>
          </a:prstGeom>
          <a:ln w="0">
            <a:noFill/>
          </a:ln>
        </p:spPr>
      </p:pic>
      <p:sp>
        <p:nvSpPr>
          <p:cNvPr id="217" name="Szövegdoboz 6"/>
          <p:cNvSpPr/>
          <p:nvPr/>
        </p:nvSpPr>
        <p:spPr>
          <a:xfrm>
            <a:off x="179280" y="404640"/>
            <a:ext cx="5329440" cy="936720"/>
          </a:xfrm>
          <a:prstGeom prst="rect">
            <a:avLst/>
          </a:prstGeom>
          <a:noFill/>
          <a:ln w="0">
            <a:noFill/>
          </a:ln>
        </p:spPr>
        <p:style>
          <a:lnRef idx="0"/>
          <a:fillRef idx="0"/>
          <a:effectRef idx="0"/>
          <a:fontRef idx="minor"/>
        </p:style>
        <p:txBody>
          <a:bodyPr lIns="0" rIns="0" tIns="4680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685440" y="404280"/>
            <a:ext cx="5326200" cy="100836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Észak-alföldi régió</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332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A Helyi Akciócsoport jogállása</a:t>
            </a:r>
            <a:endParaRPr b="0" lang="en-US" sz="2400" spc="-1" strike="noStrike">
              <a:solidFill>
                <a:srgbClr val="04617b"/>
              </a:solidFill>
              <a:latin typeface="Calibri"/>
            </a:endParaRPr>
          </a:p>
        </p:txBody>
      </p:sp>
      <p:sp>
        <p:nvSpPr>
          <p:cNvPr id="220" name=""/>
          <p:cNvSpPr txBox="1"/>
          <p:nvPr/>
        </p:nvSpPr>
        <p:spPr>
          <a:xfrm>
            <a:off x="457200" y="1341000"/>
            <a:ext cx="8229600" cy="4784760"/>
          </a:xfrm>
          <a:prstGeom prst="rect">
            <a:avLst/>
          </a:prstGeom>
          <a:noFill/>
          <a:ln w="0">
            <a:noFill/>
          </a:ln>
        </p:spPr>
        <p:txBody>
          <a:bodyPr anchor="t">
            <a:normAutofit/>
          </a:bodyPr>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működés és hatékonyság javítása érdekében a jogszabályok (pl. 93/2007. FVM rendelet, 141/2008. FVM rendelet) módosítása és egymáshoz való összhangjának megteremtése fontos feladat. </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z egyedi eseteket helyben kelljen rendezni.</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Picture 2" descr="X:\Képek\ritafotok\DSC_0019.jpg"/>
          <p:cNvPicPr/>
          <p:nvPr/>
        </p:nvPicPr>
        <p:blipFill>
          <a:blip r:embed="rId2"/>
          <a:stretch/>
        </p:blipFill>
        <p:spPr>
          <a:xfrm>
            <a:off x="250920" y="1773360"/>
            <a:ext cx="6408720" cy="4797360"/>
          </a:xfrm>
          <a:prstGeom prst="rect">
            <a:avLst/>
          </a:prstGeom>
          <a:ln w="0">
            <a:noFill/>
          </a:ln>
        </p:spPr>
      </p:pic>
      <p:pic>
        <p:nvPicPr>
          <p:cNvPr id="222" name="Picture 3" descr="X:\Képek\ritafotok\DSC_0047.jpg"/>
          <p:cNvPicPr/>
          <p:nvPr/>
        </p:nvPicPr>
        <p:blipFill>
          <a:blip r:embed="rId3"/>
          <a:stretch/>
        </p:blipFill>
        <p:spPr>
          <a:xfrm>
            <a:off x="5724360" y="333360"/>
            <a:ext cx="3303720" cy="4967280"/>
          </a:xfrm>
          <a:prstGeom prst="rect">
            <a:avLst/>
          </a:prstGeom>
          <a:ln w="0">
            <a:noFill/>
          </a:ln>
        </p:spPr>
      </p:pic>
      <p:sp>
        <p:nvSpPr>
          <p:cNvPr id="223" name="Szövegdoboz 6"/>
          <p:cNvSpPr/>
          <p:nvPr/>
        </p:nvSpPr>
        <p:spPr>
          <a:xfrm>
            <a:off x="539640" y="404640"/>
            <a:ext cx="4248360" cy="10083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4617b"/>
                </a:solidFill>
                <a:latin typeface="Times New Roman"/>
                <a:ea typeface="Times New Roman"/>
              </a:rPr>
              <a:t>Észak-alföldi Régi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706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4617b"/>
                </a:solidFill>
                <a:latin typeface="Arial"/>
              </a:rPr>
              <a:t>HVS felülvizsgálata és a pályázati felhívások kidolgozása</a:t>
            </a:r>
            <a:endParaRPr b="0" lang="en-US" sz="2400" spc="-1" strike="noStrike">
              <a:solidFill>
                <a:srgbClr val="04617b"/>
              </a:solidFill>
              <a:latin typeface="Calibri"/>
            </a:endParaRPr>
          </a:p>
        </p:txBody>
      </p:sp>
      <p:sp>
        <p:nvSpPr>
          <p:cNvPr id="225" name=""/>
          <p:cNvSpPr txBox="1"/>
          <p:nvPr/>
        </p:nvSpPr>
        <p:spPr>
          <a:xfrm>
            <a:off x="250560" y="1125000"/>
            <a:ext cx="8435880" cy="5000760"/>
          </a:xfrm>
          <a:prstGeom prst="rect">
            <a:avLst/>
          </a:prstGeom>
          <a:noFill/>
          <a:ln w="0">
            <a:noFill/>
          </a:ln>
        </p:spPr>
        <p:txBody>
          <a:bodyPr anchor="t">
            <a:normAutofit fontScale="92000"/>
          </a:bodyPr>
          <a:p>
            <a:pPr marL="250920" indent="-2509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HVS jelenlegi formában – PPT – kezelhetetlen, szükséges felhasználóbarát formában való megalkotása.</a:t>
            </a:r>
            <a:endParaRPr b="0" lang="en-US" sz="2600" spc="-1" strike="noStrike">
              <a:solidFill>
                <a:srgbClr val="000000"/>
              </a:solidFill>
              <a:latin typeface="Constantia"/>
            </a:endParaRPr>
          </a:p>
          <a:p>
            <a:pPr marL="250920" indent="-2509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z elektronikus benyújtást támogatjuk, azonban a jelenlegi rendszer nem megfelelő ennek felhasználóbarát kivitelezésére. Mindenképpen szükséges az elektronikus benyújtást működtető felület felülvizsgálata!</a:t>
            </a:r>
            <a:endParaRPr b="0" lang="en-US" sz="2600" spc="-1" strike="noStrike">
              <a:solidFill>
                <a:srgbClr val="000000"/>
              </a:solidFill>
              <a:latin typeface="Constantia"/>
            </a:endParaRPr>
          </a:p>
          <a:p>
            <a:pPr marL="250920" indent="-2509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stratégia felülvizsgálata ne csupán az új projektgyűjtésen, hanem helyzetelemzésen is alapuljon. Aki eredményesnek ítéli a programja megvalósulását annak ne legyen kötelező a projekt gyűjtés. (HB vélemény alapjá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1:21:17Z</dcterms:created>
  <dc:creator>KTZVE</dc:creator>
  <dc:description/>
  <dc:language>en-US</dc:language>
  <cp:lastModifiedBy>Nagyk. Polg. Hiv. Rákóczifalva</cp:lastModifiedBy>
  <dcterms:modified xsi:type="dcterms:W3CDTF">2010-12-01T15:41:07Z</dcterms:modified>
  <cp:revision>127</cp:revision>
  <dc:subject/>
  <dc:title>1. dia</dc:title>
</cp:coreProperties>
</file>