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A2D2-6133-4991-BDB5-EAA65465C73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D1B-CE03-4A42-BD78-D19C142ED4C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F8C-7907-4EB4-B606-436599F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141-EF08-4600-A23F-B523533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109-F297-4597-8306-17E38F2E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6CF-86F1-4237-B061-5A0B5856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769-B860-406A-978A-8D2E1973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A278-F1F3-4A19-AEE9-DC3CA6D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285-889A-4D4F-8892-59B58A33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517-6AF6-4FEA-AA0C-8A8FBEC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F74-7ED2-468B-907F-1E8F135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646-FA05-48D9-8F82-2743F9B9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EC5-0C25-4592-A4D6-0C8C576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BD3-8BDB-4F03-A36C-AB823D6C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D6A-CDCD-4930-813C-0952805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2CA-BE24-4E56-83BC-EF1C414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0814-5A25-471F-8530-59572FB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5A8A-3C4E-4D01-AB19-E6250CE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FE42-D955-401C-801D-790B599A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DF72-F299-47A7-800E-4882A1B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FBE6-C68F-4133-9391-DE2F48C7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986D-FBEE-4A17-8B73-15802635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32D9-2D51-411F-971D-5D5D732F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9463-30A4-42DF-9A0F-141691E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51D-A1DC-4A10-827C-88C9E0B0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51F2-0A46-443D-9F4A-2B0A88F7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314B5-BF23-4041-8404-20AC8B7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02C8-5F9E-48F2-9A00-1A83996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A432-80B2-459F-8B9E-E7EBC0B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1433-D9B9-439A-9466-02422F35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0E38-6545-4080-978C-45B32CAA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E953-5E3A-4503-8974-09E47871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47ED-FE9F-4A3C-B041-B80F433F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0894-4509-4A15-AA76-85DDDD7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DF84-F3F4-4947-8231-3A46F07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4BB-FF9C-4547-83B6-5D023D84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176C-E4F1-424B-BD7A-17BF9B77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DBBC-BD6A-4ABF-9D7E-1AB45B2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801C-B494-4809-8578-044F9EC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5889-4BB5-49EA-8057-C78E7A1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47B5-E8F4-465B-9502-6149E02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1579-6213-45F2-B6D9-C241C0A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C063-B4D2-44F3-8535-5BF07FBF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3319-461C-47D4-A79A-88E3AC5D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28D5-A5BD-49EA-A5DD-768861A7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3ED-C306-4D49-B997-345892A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7E4-A0FA-43F2-940F-BA3ABF7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05A-6BC2-42F7-8D1A-996AE817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69E-3A94-449C-B555-6DF1D20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AEE-D1A0-43F8-A3B1-99AB7116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A7A-5E5E-4796-8F61-88C6DA0668FE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B8A-3979-404F-90DD-3FE5FE160DC7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56A2-C701-41DD-8164-77CF290AF7C5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01F-E2A4-48DB-9077-6728D993C9CE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ím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40564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71320" y="428580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nstantia"/>
              </a:rPr>
              <a:t>A Dél-Dunántúli Régió Helyi Akciócsoportjainak közös véleménye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500" spc="-1" strike="noStrike">
                <a:solidFill>
                  <a:srgbClr val="04617b"/>
                </a:solidFill>
                <a:latin typeface="Calibri"/>
              </a:rPr>
              <a:t>Helyi Vidékfejlesztési Stratégia II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relmek feldolgozása során a HVS-hez való illeszkedés értékelését olyan erősnek kell tekinteni, hogy alapjogosultsági kritérium legy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élszerű volna a kéthavi munkatervben foglalt feladatok HACS-ok általi megfogalmazása és IH általi jóváhagyása. Így nagyobb hangsúly kerülhetne a HVS megvalósítására, a LEADER feladatok tényleges ellá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Eljárásrendi kérdések 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pályázati rendszer jelenlegi formájában nem képes megvalósítani célját, mindenképpen a pályázók igényeihez és lehetőségeihez illeszkedő eljárásrend (ügyvitel, adatlap, elektronikai rendszer stb.) kialakítására van szüksé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ontos, hogy III. és IV. tengely esetében is megállapításra kerüljön egy helyi döntésre alapozó értékelési rendszer, hogy a Helyi Akciócsoportoknak lehetősége legyen a HVS-hez és a helyi igényekhez nem illeszkedő, kérelmek kiszűrésé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Eljárásrendi kérdések I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EADER alapelveivel csak az egyeztethető össze, ha a HACS a döntési eljárás során rendelkezik érdemi mérlegelési jogkörr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élszerű volna a projektek kiválasztási mechanizmusának kidolgozása, mérlegelési jogkör biztosítása a helyi döntéshozó testület szám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ADER pályázatok esetében alapvető fontosságú az eljárásrend jelentős leegyszerűsítése, a III. tengelyben, értéktől függően (2 millió Ft támogatási igény alatt) javasoljuk az eljárásrendbeli differenciálá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Pályázatok benyújtása 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izárólag elektronikus alapú, ügyfélkapus On-line pályázat benyújtási rendszer jelenleg nem megvalósítható. Ennek alkalmazásával pontosan az a célcsoport kerülne hátrányba, amely informatikai infrastruktúrában, tudásban jelenleg is hátrányos, elmaradott helyzetű. Az ország jelentős részén, nem általános a szélessávú Internet elérhetősége, az Ügyfélkapun történő pályázati benyújtás, bonyolult és nehezen kezelhető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jelenleg használatos PDF-alapú rendszer, csak igen költséges megoldásokkal, vagy jogsértő módon használható kielégítő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Pályázatok benyújtása I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Szükség van a jelenleg is működő papír alapú rendszer megtartására, esetleg Offline rendszerrel való kiváltására, mindhárom (online, offline, papír alapú) rendszer esetén a technikailag jól megoldott, átjárható, áttekinthető alkalmazások használata egyszerűsíti és meggyorsítja a pályázat benyújtásá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érelembenyújtási időszakok időbeni elcsúsztatására van szükség a kérelmek feltorlódásának és a munkacsúcsok kialakulásának elkerülése céljából. LEADER kérelmek esetében legyen lehetősége a HACS-nak a kérelembenyújtási időszakok egyedi meghatározásá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ím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4240" y="47149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Lajosmizse, 2010. december 2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760" y="535788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4617b"/>
                </a:solidFill>
                <a:latin typeface="Calibri"/>
              </a:rPr>
              <a:t>LEADER fundamentalista deszantos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2960" y="42876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</a:rPr>
              <a:t>Egy rosszul működő rendszernek nem elég egyetlen elemét vizsgáln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</a:rPr>
              <a:t>A jelenlegi rendszer alapján a LEADER és a III. tengely nem több egyszerű pénzosztásnál. Szó sem esik az eredeti LEADER célok megvalósulásáró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nstantia"/>
              </a:rPr>
              <a:t>A program célja a helyi szervezetfejlesztés, a térségi együttműködési rendszerek kialakítása, minden más csak eszköz ezek megvalósulása érdekébe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Tartalom helye 4" descr="leader arc-ulat.jpg"/>
          <p:cNvPicPr/>
          <p:nvPr/>
        </p:nvPicPr>
        <p:blipFill>
          <a:blip r:embed="rId1"/>
          <a:stretch/>
        </p:blipFill>
        <p:spPr>
          <a:xfrm>
            <a:off x="4214880" y="1928880"/>
            <a:ext cx="41749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500" spc="-1" strike="noStrike">
                <a:solidFill>
                  <a:srgbClr val="04617b"/>
                </a:solidFill>
                <a:latin typeface="Calibri"/>
              </a:rPr>
              <a:t>Teljesítmény értékelés I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LEADER Program sikere múlik azon, hogy az IH  megtalálja-e a HACS-ok számára a helyes arányokat az alapvető LEADER tevékenységek és a Kifizető Ügynökségi feladatok között.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teljesítmény értékelésének alapja nem lehet az MVH és a HACS között létrejött Delegálási Szerződés alapján végzett „akkreditált ügyintézés”. A HACS fő funkciója, nem a kifizető ügynökségi feladatok ellátása, így az akciócsoport teljesítménye nem mérhető az akkreditált feladatellátáson keresztü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HACS-ok  nem </a:t>
            </a:r>
            <a:r>
              <a:rPr b="1" lang="hu-HU" sz="2000" spc="-1" strike="noStrike">
                <a:solidFill>
                  <a:srgbClr val="000000"/>
                </a:solidFill>
                <a:latin typeface="Constantia"/>
              </a:rPr>
              <a:t>kifizető ügynökségi feladatok ellátására jöttek létre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. Az akkreditált feladatokat jelentős többletköltségekkel úgy vállalták át, hogy az eredetileg erre tervezett TA  keretből forrást nem kaptak. A feladatok ellátása már önmagában is jelentős forrásokat vont el a LEADER fő alapelveinek térségi megvalósításától, éppen ezért </a:t>
            </a:r>
            <a:r>
              <a:rPr b="1" lang="hu-HU" sz="2000" spc="-1" strike="noStrike">
                <a:solidFill>
                  <a:srgbClr val="000000"/>
                </a:solidFill>
                <a:latin typeface="Constantia"/>
              </a:rPr>
              <a:t>elfogadhatatlan, hogy a HACS-ok a nekik nem adott forrásokkal fizessenek azért, mert nem tudják ellátni mások munkájá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Teljesítmény értékelés I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teljesítményértékelés szempontjainak a Helyi Vidékfejlesztési Stratégia végrehajtási állapotának vizsgálatán kellene alapulniu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égrehajtás állapotát nem tükrözi megfelelően, egy szimpla mutató (pl.: beérkezett pályázatok száma), mindenképpen fajlagos mutatók számítása javasolt, melyek figyelembe veszik az egyes akciócsoportok és stratégiák különbözőségeit (forrás mennyiség, projekt méretek, projekt fajták stb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Teljesítmény értékelés II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z értékelési rendszerbe, be kell építeni az alapvető LEADER célok teljesülésének mutatóit, melyekre a hazai és az Uniós jogszabályok a LEADER programot és a Helyi Akciócsoportokat létrehoztá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mellett, hogy az akkreditált kifizető ügynökségi feladatok ellátása, nem a tartozik a Helyi Akciócsoportok alapfeladatai közé, továbbra is azt gondoljuk, hogy a pályázati rendszer csak a HACS-ok közreműködésével képes a vitaanyagban megjelölt határidőket teljesíteni (LEADER esetében a 6 hónap is sok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HACS-ok teljesítmény értékelésével kapcsolatos objektív és fajlagos kritériumokat a rendszer minden szereplőjével együttesen szükséges kidolgozn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Teljesítmény értékelés IV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   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szankció csak azoknak a HACS-oknak járhat, akik az alapvető feladataikat nem látják el. Akik a delegált feladatokat nem tudják ellátni, azok helyett lássa el az MVH, ahogyan ez eredetileg is vol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Ezzel egyidejűleg szükséges a premizálási rendszer kialakítása is. Jelenleg a HACS-ok nem érdekeltek a kérelmek számának növelésébe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HACS-ok teljesítményértékelésén túlmenően minden rendszerben szereplő teljesítményét értékelni kell, előre meghatározott paraméterek szerint, mely paramétereket az érintettek együttműködése mellett szükséges meghatározn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z akkreditált HACS-ok részére legyen lehetőség az MVH térséget érintő munkájának - különböző paraméterek alapján történő objektív - értékelésére, ezzel pedig visszacsatolási lehetőség legyen az esetleges szubjektív, egyoldalú minősítések elkerülésé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HACS jogállás 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elyi akciócsoport bármely részének tevékenységéből eredő problémákat a megfelelő helyen való beavatkozással kell kezelni. A beavatkozás lehetőségének minden esetben a helyi akciócsoport megfelelő szervében kell manifesztálódn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inden esetben vizsgálni kell, hogy a Helyi Akciócsoport miért nem látja el megfelelően a HACS a feladatát. A vizsgálat alapján pedig eldönthető, hogy az akciócsoport tevékenységébe, milyen módon szükséges beavatkozni, annak érdekében, hogy feladatát megfelelően tudja ellátni a jövőb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04617b"/>
                </a:solidFill>
                <a:latin typeface="Calibri"/>
              </a:rPr>
              <a:t>HACS jogállás II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mennyiben a HACS bármely tevékenységével kapcsolatban pénzügyi szankcióra kerül sor, úgy lényeges, hogy a szankció alapja ne az adott elszámolási időszakban felmerült költségek százaléka legyen, hanem a HACS működési keretéből való forrás elvonás, ugyanis az előbbi gyakorlatilag a HACS pénzügyi működésképtelenségéhez vezeth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500" spc="-1" strike="noStrike">
                <a:solidFill>
                  <a:srgbClr val="04617b"/>
                </a:solidFill>
                <a:latin typeface="Calibri"/>
              </a:rPr>
              <a:t>Helyi Vidékfejlesztési Stratégia I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Helyi Vidékfejlesztési Stratégia 2008. évi tervezése volt az első jelentős ellentmondás az IH iránymutatásai és az alapvető elképzelések között. A HVS felülvizsgálata során valóban a térség fejlesztési lehetőségeit kiaknázó, a helyi igényekre építő dokumentum elkészítése legyen a cé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Helyi Vidékfejlesztési Stratégia tervezése (felülvizsgálata) nem csupán a beérkezett projekt-ötletekre épít, azok csupán megalapozó részei a tervezési munkának. Ebből kifolyólag a tervezés részeként és nem külön tevékenységként célszerű használni a projekt gyűjtés eszközét. Javaslatunk, hogy a Helyi Vidékfejlesztési Stratégia felülvizsgálata során, a Helyi Akciócsoportok számára az elérendő cél és ne a kötelezően használandó eszközök (indikátorok) legyenek meghatározv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9:41:49Z</dcterms:created>
  <dc:creator>Acer TM</dc:creator>
  <dc:description/>
  <dc:language>en-US</dc:language>
  <cp:lastModifiedBy>Acer TM</cp:lastModifiedBy>
  <dcterms:modified xsi:type="dcterms:W3CDTF">2010-12-14T10:18:45Z</dcterms:modified>
  <cp:revision>33</cp:revision>
  <dc:subject/>
  <dc:title>Baranya Megye Helyi Akciócsoportjai, az alábbi közös véleményt fogalmazták meg a  2010. november 11-én Csütörtökön, a Mecsekidék Helyi Akciócsoport pécsi irodájában megtartott, „Leader társadalmi vita, Baranya Megyei fórumán”</dc:title>
</cp:coreProperties>
</file>